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5D55-49E4-4E23-9E20-150315469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5434-C6C5-479F-868A-A788FCFFA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0A69-CB03-4540-BB64-1C9804983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B94B-7A25-4405-8A76-B6A877DF6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8354-0CC1-4E09-9BC3-59E55BC8EF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AC1C-6798-43F1-B044-003C4FC564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F6EC-BE93-49D4-8A6F-578E8FD1D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3B48-0BC2-4E40-8021-8E7A266337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5940-DB54-46B2-8DCF-7A19DFD008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661A-87FE-489A-A70D-DBC4787B2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43FE-F26A-4360-82C7-ACD1925DE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CC6E-126B-452D-8C52-1E3D25A36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B875-798D-4F8D-B313-FF3FD1E6FE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A4A8-88D9-4A02-8E33-C8629164D3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8BE7-8B84-4DD5-A858-225C1A8B3D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E369-E359-4962-8CBC-B316BF6E0D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ABD2-B855-45D0-843D-F639AECA4B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7E1-0ACF-4DDD-97E0-5F94EBE89B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250-6960-4776-9AC1-A0CA1FC0DA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DAE-FEF1-4576-98A5-2CDA86F199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C95-0CA7-4EB8-911F-9714E2D5CA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CDB-BF7D-4956-81F5-519959591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CC2B-8BA6-4AD1-8E9C-F9627EAA2A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CC2-561E-493A-AB0B-E8D736ABB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751-33B5-47D2-BE58-9CD2EDA1CB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85E-4213-4843-943B-88ECE8910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A6B-8788-4332-9401-0C0908AD98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C91-AA2E-444F-9E1B-CA691D3E35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BFA-3AD5-4E44-B037-5D15E82B43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CB7-68C7-424F-976C-5509B62B39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204E-A619-4179-970C-F25544A0B4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78105-B076-4876-8A50-141ACB5199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164A7-21D6-43BE-B892-C34C0A46F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10DA-53F8-4326-93A8-76F08DD374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2453-B801-4D19-9191-3AEF30C483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4BEAD-9C1D-4087-942A-40706CF7FC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59DED-B44A-4051-8B39-8DBEA4DEA7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CA423-9730-4034-B96F-558A064615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AFB35-DA86-468E-BDEC-F12DF657E5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5CF72-1F10-46F3-9B99-99369F975B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6A88C-EB34-4AD4-8B4B-D9EB2170D8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52029-2545-4868-860C-44FEFC87C1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A270-5CC1-405E-95CD-3DCDFC3B37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8D26D-B8B6-435E-A01E-242263EDE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48E1-E375-4162-8C8F-A2E54C02D9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89B09-D376-46D5-9B08-BAE8D1D54C1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3F45-CBD1-43CC-B96A-E48BE3124B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0C176-14E9-429B-A709-C34A4C7D7C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6D8CE-C6D3-4DEC-9C91-58B0B615DD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51C2-37A0-479D-8E09-B93F2188C0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3F45C-C33F-4B00-B234-DCB4024EE3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04FE-5E97-4683-A5D7-801CEF8393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AFA5F-359E-444A-882F-AA8A4E45EC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C9C6-0EBC-438E-AE81-11D9E6E817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845BC-0335-4DF9-91D2-9122D17EA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B336-4D77-4BD9-92CD-D0AD8972AC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9521F-E361-4E1F-821E-672938454D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6FA-A5D6-42A3-A73A-250C63A465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7E1-DBF4-4D9A-91AF-D2027595AF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F5C9-5A91-40FA-8E20-A7E7030B3BA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B7E-CA8A-44EC-B78F-A5CD273A898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2592-1590-40CB-A118-7369ECCF7D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750-1F21-4B18-95F2-6BD562E2BC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826B-E4E0-443B-8F30-A6BBAE0F55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CD8A-19F8-4B6C-B71E-3AA1394CA0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3C24-162A-4AEA-A900-392143D1F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BF14-98F3-4A93-A54A-9EDF64FC08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35C5-9E1A-46B0-A90D-FCDCDABBD7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E358-233F-4C19-8AAF-DB897ACD49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D446-7400-4001-8954-F02F63889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6DE5-489A-457D-B418-3547273DB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7E6C-F55C-4E77-B7A4-FDAB0C9E7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4-</a:t>
            </a:r>
            <a:fld id="{B83237C5-3F1C-4B3F-9F71-51E0976580C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52835E2D-FE3F-4BCC-8BC0-D34A9BD2BED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A3102C0-0816-420B-AECB-F8C5A44AFE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4DA07D34-7361-41F4-8975-02EAD94EEFF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E53492AB-686B-4573-8BA2-FACB89841BB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A796819F-A1E5-441B-BA24-565FECDE2E8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1FCBE45-6040-48F2-AD84-9E33DF76955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tivity 5.2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bjectives-Strategy-Tactics Chart Exerci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29:42Z</dcterms:created>
  <dc:creator>bweeks</dc:creator>
  <dc:description/>
  <dc:language>en-US</dc:language>
  <cp:lastModifiedBy>jvanover</cp:lastModifiedBy>
  <cp:lastPrinted>2013-02-21T16:10:13Z</cp:lastPrinted>
  <dcterms:modified xsi:type="dcterms:W3CDTF">2013-02-21T16:13:17Z</dcterms:modified>
  <cp:revision>91</cp:revision>
  <dc:subject/>
  <dc:title>NIMS/ICS</dc:title>
</cp:coreProperties>
</file>